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1A08-D015-4C76-B53A-92A5D8427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2185-C8BF-470E-82AC-43A04427E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65BD-DA5A-4A76-9433-1A3ED3B75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A90B-98C7-49B6-813A-F30F69B1D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B132-F522-4ABE-92AF-8B39C3CC5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5340-4995-4FC2-A533-BE5FB51BA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A7B1-69CF-4DA5-B6AF-ABF02C26C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D6EF-CA0F-48C1-92E3-3CBB10C4F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65EE-9B75-48CA-9D2D-58BC2BDC8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223C-B0D8-40A6-9095-4B712D7B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4DE7-AA86-4098-8160-BEADA57C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A2DA-9837-479D-A420-2B629AC2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3C22E-B8CD-486E-BF71-055AAD4274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914400" cy="857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verla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Midf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sila Dahd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enoscape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X </a:t>
            </a:r>
            <a:r>
              <a:rPr b="0" i="1" lang="en-US" sz="1800" spc="-1" strike="noStrike">
                <a:solidFill>
                  <a:srgbClr val="000000"/>
                </a:solidFill>
                <a:latin typeface="Lucida Grande"/>
              </a:rPr>
              <a:t>overlaps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 Y =def. for every t and every x, if x </a:t>
            </a:r>
            <a:r>
              <a:rPr b="1" lang="en-US" sz="1800" spc="-1" strike="noStrike">
                <a:solidFill>
                  <a:srgbClr val="000000"/>
                </a:solidFill>
                <a:latin typeface="Lucida Grande"/>
              </a:rPr>
              <a:t>instance_of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 X at t, then there is some instance y of Y at t such that (x</a:t>
            </a:r>
            <a:r>
              <a:rPr b="1" lang="en-US" sz="1800" spc="-1" strike="noStrike">
                <a:solidFill>
                  <a:srgbClr val="000000"/>
                </a:solidFill>
                <a:latin typeface="Lucida Grande"/>
              </a:rPr>
              <a:t> overlaps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 y at 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w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x </a:t>
            </a:r>
            <a:r>
              <a:rPr b="1" lang="en-US" sz="1800" spc="-1" strike="noStrike">
                <a:solidFill>
                  <a:srgbClr val="000000"/>
                </a:solidFill>
                <a:latin typeface="Lucida Grande"/>
              </a:rPr>
              <a:t>overlaps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 y at t =def. there is some z such that z is </a:t>
            </a:r>
            <a:r>
              <a:rPr b="1" lang="en-US" sz="1800" spc="-1" strike="noStrike">
                <a:solidFill>
                  <a:srgbClr val="000000"/>
                </a:solidFill>
                <a:latin typeface="Lucida Grande"/>
              </a:rPr>
              <a:t>part_of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 x at t and z </a:t>
            </a:r>
            <a:r>
              <a:rPr b="1" lang="en-US" sz="1800" spc="-1" strike="noStrike">
                <a:solidFill>
                  <a:srgbClr val="000000"/>
                </a:solidFill>
                <a:latin typeface="Lucida Grande"/>
              </a:rPr>
              <a:t>part_of</a:t>
            </a: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 y at t</a:t>
            </a:r>
            <a:r>
              <a:rPr b="0" lang="en-US" sz="1600" spc="-1" strike="noStrike">
                <a:solidFill>
                  <a:srgbClr val="000000"/>
                </a:solidFill>
                <a:latin typeface="Lucida Grand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18280" y="4251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12520" y="4784760"/>
            <a:ext cx="744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definition in RO_proposed is spatial, not mero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09480" y="380880"/>
            <a:ext cx="4114800" cy="4572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36280" y="1066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56360" y="2651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4038120" y="1371600"/>
            <a:ext cx="129564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10200" y="5029200"/>
            <a:ext cx="23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art_of Bon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8040" y="5562720"/>
            <a:ext cx="34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art_of Synovial J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8040" y="6095880"/>
            <a:ext cx="431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ne 1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verlap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ynovial J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44720" y="1965240"/>
            <a:ext cx="348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overlaps, rather th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finition, avoids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name ‘A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129520" cy="30481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419720" y="990720"/>
            <a:ext cx="195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xon 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29200" y="1371600"/>
            <a:ext cx="0" cy="1295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71640" y="4784760"/>
            <a:ext cx="42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is portion of axon in axon tr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Note that it can be the case that X overlaps Y as thus defined, even though Y does not overlap 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Thus uterine tracts overlaps urinogenital sysem but not uriongenital system OVERLAPS uterine tract (because of male urinogenital system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Actually uterine tract is part_of urinogenital system, which raises the question of whether each of X's parts overlaps 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Grande"/>
              </a:rPr>
              <a:t>Overlaps at a fine grain may play a role in the definition of connected_to (keep in min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7T18:32:12Z</dcterms:created>
  <dc:creator>Peter E. Midford</dc:creator>
  <dc:description/>
  <dc:language>en-US</dc:language>
  <cp:lastModifiedBy>Peter E. Midford</cp:lastModifiedBy>
  <dcterms:modified xsi:type="dcterms:W3CDTF">2008-05-19T17:20:25Z</dcterms:modified>
  <cp:revision>11</cp:revision>
  <dc:subject/>
  <dc:title>PowerPoint Presentation</dc:title>
</cp:coreProperties>
</file>